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509-8D81-485E-B9AB-A6BE13BF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8A9-2B70-4580-A68E-23D462D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D3BE-A20B-499C-8F08-358F1EC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F015D-E70D-4EB4-B89C-5F0E219F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AEA17-57FB-4D5F-951E-4CB86A68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560F4-5CF3-45C4-8C36-4CD81507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967C2-35EA-4A9C-90B0-BE7A9DE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669C7-7D18-43DB-B006-D10C43E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C3934-BDD2-4FC5-AB83-02C5EDF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3E83-B1C8-4717-8A8B-BCA4440C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D70DD-32F2-4F5D-B10E-8C1835FF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0B6E-CA08-47F0-BFC4-7182574D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09F-BDD7-4E69-889E-0A040110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6B675-D80A-45B8-8D19-1D690F5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3BFB-B43D-4432-8793-4EDCFBF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C0967-2497-4739-BF6A-89A5FA0F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F1792-2406-458C-9339-9F5DD9F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31A2-BD2A-4F54-8605-E61BD90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41466-F70F-4BD8-9917-AEF92BB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3D54-5390-449D-9855-3F0D028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6980-7DDB-46EB-9CD3-1ECF64D6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6C049-08C0-4BA9-B2A0-A22810F2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EEB81-02EB-40CD-BB14-CCFD3378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314-FC91-44E8-816C-240981BE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FF09B-A344-4925-9A76-ECF35268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2A29E-746D-43B2-84AA-97B2F44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72F05-62F0-4ABA-AC3A-73BBE8E6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EA36-84B4-4064-BAC5-88214AD6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0B48C-0978-4C3A-9562-1CC1E10C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6F9AC-76AC-426D-9A6C-651607E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3042C-4E79-444F-AE0D-153841B8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403F-2917-4E2F-B220-8CF6A2F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D779-D6F4-410D-A5F5-CD49CF9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7445-6F19-487C-944E-C33ED2D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26D-1B52-4812-929B-D3E0E56A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48D9-8B12-463D-A949-A630BE2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A4480-2125-46FD-8DFB-047907DA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A8E5-C3EB-4C6B-A4A7-DD6DE100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BA0C9-51E6-459A-B0FC-64D09805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B17E5-6BDE-42E5-B9D1-DDCF2A88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4FD91-D60F-42F0-A206-ADF7A430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1A81C-D35D-485C-AA98-2A0438E2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4AA43-CAA8-419E-B0A8-08F70D8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1A67D-E51E-470A-B384-23B66A5E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58CB2-C608-4721-9859-AC34E4A3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98F-5D74-46E1-8721-F8B265A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AB041-5BE4-4C68-9ADA-099EB7C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73E0F-D2FD-4EFB-96E9-8778377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8466A-2F91-46D8-9650-D39B68C1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5F56-A45E-44B9-AC1D-E551A0E7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C7425-E7E7-42BC-8487-DC32EA6F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B4DD9-7478-44D0-9558-26FC6492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30669-B65E-42C5-91F7-09C6127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971C1-ECFD-4657-9F9E-61FFC4D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5813A-3E9B-485A-8079-D994B54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5BB9E-C9DC-4ED5-A7BB-46F63BD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5AD-2F00-450F-AB0E-72BBC7D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3A61C-8AA8-4865-B7D5-0390555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794A9-1F3E-40C3-BB74-DEB8ED7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28C3A-076E-4A9C-BCE9-2BD0AB0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0B83A-E4A9-4219-A376-C47D2F1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A76A1-8C15-45FF-A2F5-DDAE06C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79AF7-DE9D-43D0-89E4-06CC5F26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F7FD0-7F8C-4692-B23F-05F4C8D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BEAD0-6862-47C9-9A3E-1684AE23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A8B74-7790-4F03-AA9F-41CB3B4F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8CABF-00F1-434E-9103-885C0AF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2F5-CE11-4680-A0A8-A9818687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D128C-BF50-4FAD-8251-E66A626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A512D-21F2-421C-918F-EA01CAFF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3AEAA-47FB-422F-ABF2-B37D419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A086F-3D7C-4FB7-9F2A-BB0BA14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C4688-CB77-4338-AD5E-0279BBE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12489-D346-4595-BD41-1036A32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E5C04-B8EC-457C-AD5A-52FD639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048CA-EC7F-473D-8E07-8AC24857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7DBB2-C4CC-4847-90B3-9DBE4CE3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8C0BF-E479-408C-A2F3-3217CA3A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60B-A0FA-4923-9F32-E52EF03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E464F-36F0-48B6-8F8D-B952FDAF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5DA51-CC4C-4291-88BB-95E924E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16EF3-EE2F-419E-9080-2147141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57305-FD43-4839-A358-262126A4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AF5A9-D033-4F40-AADB-166DAE81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F797B-AECD-4526-BB0D-E4551C6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EABC0-0C36-4F87-BDB9-A479FDE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F90CB-60F7-4FD9-9DFB-829B4CA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CC8A3-8EB6-4390-BFFA-FE302A3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05BBA-47C6-4803-8E01-9F922FAD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643-EBF0-4EB5-9C1F-D251537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4C59B-C172-4727-976D-9C8018B9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299C4-A8A4-439C-91AD-16390C33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D553B-A579-42AA-AA00-574CC43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8541E-DCE7-41FF-8ED9-06E25F6F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31740-BE32-4222-914F-E3262A2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2378B-6D1D-4137-A2CD-E1F0FAB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3D249-A2CC-4173-81C0-6721F37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29B42-6479-4B22-BA97-EE94722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1D521-20C1-4682-AA8C-997ABE1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8944E-DEA0-4F30-9AC8-76492AB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294F-96A4-4236-8386-7088831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70C12-6D59-40E7-A620-341AD2CC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83F80-FD9C-402E-8C97-5AB41992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E2D4C-A10F-4173-B587-ABF0DAF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3453F-22D7-48AD-BB5D-E5365772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0EE2F-631F-468D-AD26-2DE96FD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5C45F-F94C-4B07-B7C9-CA2BAE5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9F949-EA58-495E-A623-7D9A65E5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82B7A-D45D-46CF-9C87-497065E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2EA78-3451-4782-A455-88165E2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117FF-ACA3-4E5D-AF4D-6FC1608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49B-3AA6-4729-B674-836AC9B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CD84-DFB7-4E53-BC3D-FEAA36B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1A454-62A3-48D0-9720-6B95DDE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27CE5-2994-4C8A-88D2-44DA049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85C4F-1EBE-4926-BA03-7A07937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68C1D-FEA8-48CB-B4F8-ABCD6F1A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1494B-EAAA-4913-9D25-3692FBA0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C2721-910B-4DF5-8D6E-EF434461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49A4A-CA27-4364-A7AA-8936360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F5E7F-603E-4683-AB43-638D264B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1D4ED-6FB9-42A1-B377-64B83B16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09067-12EA-4539-B58D-BD6A135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7004-DACC-4E29-81DA-7FC361F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FD156-8440-47BA-BDFF-B5A5988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56A6E-DD0C-4085-99CF-FF72AB1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616A2-650A-431B-8DB1-9D9B3B4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D1A3C-FF0B-484E-99F2-C73D0E65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66DAE-BFCE-4798-BEBF-B3F1CC1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5C2A0-7BE3-4ECC-BB55-BBD8FEB0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7B541-55D1-414F-AB04-37CBB502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3E1DB-A13F-40EB-849F-C8DD2D98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1AC83-8FCC-43BA-A455-CE04BC8E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0E037-AAFB-425A-AEAB-6FF9ADE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640D-84AB-4892-B39B-426CC55F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6BCB5-6C3F-4FA5-92FD-542B6E0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423FC-21E4-48BA-AD17-C6FD0B0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72258-2948-403F-BC0E-0BE2D14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8D97B-1274-4939-BCF7-1E54B6C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E2AF8-48D4-4861-9FC5-57096B1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1EE1B-5683-4DDB-B2CE-A7BC842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B8047-3F15-4B8D-86AA-21B9C67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2B480-FA4E-4B55-BD70-AE5D4CED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82E47-75DF-4AB8-834D-4774A39B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9EE87-BDFF-4156-82D5-3EC1B984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AB6C-4B44-444D-BB27-0EDD622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62ABF-AE96-465E-9B65-84D8C956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4E8BF-6516-4095-9386-97873F5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754E8-2016-4394-98EF-591DB02A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0AD7B-50BE-46E4-A856-090FC55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23940-324D-4728-8647-C8CD0D9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8A4BC-E3EF-4B21-8BE3-0A2275C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F925D-DDF5-4E31-BB62-CCF06BD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0C4CB-3DF4-418D-8ACB-422512A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4F869-271E-4AFE-93E7-109F790C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466AC-47FE-4CA9-98ED-2A2A5745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B23-AB97-4D7A-8332-67D768F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D442E-65E0-45B9-9D87-9C1F08A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92759C-1BB8-4260-AFCE-8C07DCE0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F3CFE-01C3-4407-A94A-7C19D9F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A202F-5757-484E-A526-7E2718C4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E5D41-92AE-4CB9-8A60-3A3AE9E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826A9-37C8-4B59-B405-E2A5A64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BF5D7-35DF-41B9-A35A-C34BBBE8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1134F-A1AC-4938-96D4-36D3F94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2C49B-3CEF-4DA4-8236-21D1F10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21E0D-51DD-46FC-84B5-94C0496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6A1D-3619-4A97-89D3-17A2C77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3608F-880A-4ECC-8A70-209976C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3556F-246B-4FEF-9706-A874B552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C240B-2DDA-4603-80C2-0F676A2B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261A-587E-49DD-BBB0-12CCF189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692F-65B7-444F-BE57-FE46A7D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3FC3-77A8-400D-9FFD-714870F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E206-D048-4472-AA51-E28E4907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F8F-5D53-4B13-9B62-0BD3464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1C7A-7AE0-424D-B1EB-655A2ADF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A7E9-5E00-4CA3-9F21-4D5A85A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2843-F1AB-484D-B3F6-8387210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B751-7218-4B9E-89BB-78AE70E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91D1-1332-4F8C-AA63-E8D3A755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0553-46EE-4B6D-B150-4A6B55C7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7BD2-125A-4F9B-A0B2-7D5DC1CA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4ED8-C438-49F9-8EE9-381601BE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2402-2267-472A-9F3B-44DBF93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5659-07F3-4061-8238-93889B5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2E2-2A0B-4EBF-BB11-BD964E5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2160-7CDA-4E82-BB18-61413D1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5AA1-3DF7-4F31-AD83-E6A94A9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E323-776E-4151-B736-86D63CE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FEDC-9448-44EA-AF5F-8835E72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5E87-461F-4B39-A1D0-CE45B4A0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905B-FA26-4E10-A297-0387560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673B-820D-44B5-8959-65BF7D2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62EB-2AD0-48AF-9E6A-B999BCD2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8CE5-3662-43C7-990D-76307290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2247-800C-46D0-8C30-68A09625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2D1-D370-43C0-AED6-94A0D40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7990-3678-4921-AF43-2B34AC5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2485-ED42-4AFF-9F19-16B7714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E756-68EF-460E-B8B8-C5DDD12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00C6-949B-4877-B154-AD85DF1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AA55-318F-44B3-8249-4F8EE90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5C42-7191-4D3F-A503-3888B98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D0CD2-0095-4A4B-86FA-8200C5A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A7A7-FDCD-4378-9568-1B6D9E2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0000-0942-4100-9769-3FF4BBD6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32E7-CCA2-4B72-AD1D-D5407BDE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D8A-CD4D-46B9-98CF-AFBEF51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E684-1EEA-4180-88C2-D4CDAE1F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4C88-65C0-4E3C-9E71-8944955F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3E91-639F-4E03-86FA-09680D76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2078-3318-415F-9CA7-36994F57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70B6-A0C9-450A-BBDC-949E457B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464A-1EB2-4799-83CB-255AF4BD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4FA0-C5BA-4623-94F1-128987E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8AFE-F8EF-4229-A403-672737D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15AA-43DF-4E75-AAC7-A2348D3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562C-4632-4AFE-918A-25F23AF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03A-C243-49CE-A8B9-DE2F34F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93DD-AFC1-464B-8462-E102D095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EFF7-0344-493C-AE50-E682DB13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0568-226F-49BC-AF70-AD77E7C4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0B97B-D097-4B72-85F3-5CDFA75E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C834-877D-4EA5-91BD-FC986EB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6371-1CBE-4626-904B-260ADF2C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05B0-56CF-40D2-9FBB-4F18941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CFE50-7EB9-435D-8C5F-0A01319D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96FB-DFF2-417F-8510-8B8D6C66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B9F6-5429-4646-A8D2-B31DB4A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33D-DBAF-46A1-9BA8-8159056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B9F2-7541-4E35-86AB-B26ABE8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7B35-690E-4FC5-A11A-198B464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0F2E-2DA9-4351-A293-FEE3727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D3AE-E70E-434A-9332-F677BE36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3FDB-D489-448A-8BCD-A39D9F66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CCE32-4CB5-4B93-AA16-02DE7753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CFAAF-71BC-4503-9820-24D0D8E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F02C9-04C4-49F6-B94B-9BE60FC6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C8E35-78C6-47B0-8ECA-BDDE3FA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B070-7036-454F-AA7F-8FF5CB61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833-227D-42B5-8A4D-B9684C5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473FB-B4B9-4076-B64B-12A3C8DA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2B17-AB0E-4338-9DE4-A98C6F7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C5BFF-56FC-4C1E-B3D2-B0ABB26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814A2-77AF-438F-98D1-24239FF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37C30-2B9A-47E3-8800-AD9A7512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D0E8F-5A0B-42E2-BDF4-CD9300B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1250-F5F5-4C00-916A-96689522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FA8C-734D-4411-86FE-FDD8B544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5FAA1-5216-48CF-9FAA-5B413807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925A-CE09-4ADD-AF01-FEA4EC5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D8C-3272-468D-8C6F-AD1A98F0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FDD-4DAF-4957-A397-788B210FB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E37-13E9-4CC9-BD2F-CF32CF114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5E7A-457B-48EB-8D37-EA37E66CC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F681-4B34-4708-8003-240C65EA9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8C6-3EF3-4CF4-A31C-13A812B93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6B1-00D0-4941-8D47-95BA47491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EA5-9E45-48FA-A7F4-8993DA838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45F-1512-4646-B22C-81C9A11AD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9BFA-4385-4302-A497-8985BC3FC1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2F4-D9B7-48D7-B9E8-813F3A3F8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E5B7-15BB-469C-9154-5FCD2AFC5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764-E1C5-4DBF-9DA7-CA157B18A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FFDA-EBBC-41A4-AE24-CFEFCF704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B8A9-6F42-40F0-A721-7209309F9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21B-308E-472A-8D0A-8E389DEDB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ABF-8162-4A7F-9541-DF6CA7808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50B5-9D2E-41AF-9984-3232FF91D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190-BCC1-4747-860F-1837C6BB5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8964-B290-4BFC-B739-8FB3B0A29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09F-D859-4FC2-881A-0631B95BD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9FF-0706-433A-8557-4B639A1C8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601C-35E8-4A76-8380-2393ABC89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F7A7-C990-4497-B372-2EAF2D085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762-E84F-4E26-89ED-BE81DA2CEB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6210-E845-40B5-9B58-35CF0D724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5B3-E856-4FBB-8F7C-C003B3857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139-E779-4E1D-9C1A-868B4838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44C-6F9A-4CBF-B59E-F2B3C81C8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32E9-BDD9-4A87-A6FC-A758B3C89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03F-40AD-4EF1-8EE8-53EC203A3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ADB-9643-47C1-9F0F-8E5BCC51F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7F1-E145-4CD1-83AB-133F6B8F9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9AC-A28C-46E5-A191-9C9B18D5C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633-5935-48E2-8F51-1A910E792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F49-2329-4694-ACE6-B89CEE3F4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1EFA-6330-43D7-B9D3-D4E94D2EA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E229-B700-486B-9AD5-B784C312F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DDA-335E-4992-8B98-858420E29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61B7-0BF5-415E-9FD5-B33415FEC7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9400" y="2597040"/>
            <a:ext cx="88452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7" name="图片 1" descr=""/>
          <p:cNvPicPr/>
          <p:nvPr/>
        </p:nvPicPr>
        <p:blipFill>
          <a:blip r:embed="rId1"/>
          <a:stretch/>
        </p:blipFill>
        <p:spPr>
          <a:xfrm>
            <a:off x="1357200" y="2195640"/>
            <a:ext cx="6429600" cy="2466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2"/>
          <a:stretch/>
        </p:blipFill>
        <p:spPr>
          <a:xfrm>
            <a:off x="2743200" y="2795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2627280" y="4091040"/>
            <a:ext cx="79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图片 1" descr=""/>
          <p:cNvPicPr/>
          <p:nvPr/>
        </p:nvPicPr>
        <p:blipFill>
          <a:blip r:embed="rId1"/>
          <a:stretch/>
        </p:blipFill>
        <p:spPr>
          <a:xfrm>
            <a:off x="743040" y="1090440"/>
            <a:ext cx="7657920" cy="4677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1908000" y="3514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1908000" y="1643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1908000" y="537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190800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183528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7"/>
          <a:stretch/>
        </p:blipFill>
        <p:spPr>
          <a:xfrm>
            <a:off x="1908000" y="472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8"/>
          <a:stretch/>
        </p:blipFill>
        <p:spPr>
          <a:xfrm>
            <a:off x="1908000" y="28954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71280" y="1209600"/>
            <a:ext cx="8999640" cy="44388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684360" y="4911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684360" y="5315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357720" y="1504800"/>
            <a:ext cx="2162160" cy="3715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66760" y="2476440"/>
            <a:ext cx="8610480" cy="1905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4614840" y="40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227640" y="404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028000" y="40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2916360" y="4062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19160" y="971640"/>
            <a:ext cx="8904240" cy="4914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75564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5099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366840" y="2195640"/>
            <a:ext cx="8408880" cy="2466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01448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04292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97164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042920" y="3903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97164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8839440" cy="4191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268360" y="4135320"/>
            <a:ext cx="64800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3492360" y="4164120"/>
            <a:ext cx="79236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4788000" y="4164120"/>
            <a:ext cx="792000" cy="320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5940360" y="41353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7380360" y="4135320"/>
            <a:ext cx="151272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2484360" y="494172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3851280" y="495612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9"/>
          <a:stretch/>
        </p:blipFill>
        <p:spPr>
          <a:xfrm>
            <a:off x="5219640" y="49417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0"/>
          <a:stretch/>
        </p:blipFill>
        <p:spPr>
          <a:xfrm>
            <a:off x="6443640" y="49417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1"/>
          <a:stretch/>
        </p:blipFill>
        <p:spPr>
          <a:xfrm>
            <a:off x="7812000" y="4941720"/>
            <a:ext cx="79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404640" y="2209680"/>
            <a:ext cx="8332920" cy="2438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108756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104292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1101600" y="3471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04292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1087560" y="4292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372960" y="804960"/>
            <a:ext cx="7675560" cy="26859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2" descr=""/>
          <p:cNvPicPr/>
          <p:nvPr/>
        </p:nvPicPr>
        <p:blipFill>
          <a:blip r:embed="rId2"/>
          <a:stretch/>
        </p:blipFill>
        <p:spPr>
          <a:xfrm>
            <a:off x="781200" y="3595680"/>
            <a:ext cx="7267320" cy="31701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341964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262728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575316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3967200" y="6093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190440" y="306360"/>
            <a:ext cx="8763120" cy="6399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00000" y="2722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900000" y="4782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900000" y="558972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1073160" y="1576440"/>
            <a:ext cx="6858000" cy="37051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2700360" y="3400560"/>
            <a:ext cx="576360" cy="320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2843280" y="4681440"/>
            <a:ext cx="649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